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gif" ContentType="image/gi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6949-D707-427B-8353-22B7A779F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F534-DFB9-4BAA-8591-33A727E8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CDE4-DA27-41BB-8F81-83C28131E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80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56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80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0C12-DF59-4458-BA35-ED28B00C9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087E-7567-4482-BDD6-5474EB594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464FE-A883-451B-BEEF-FE8CCC04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D02F-1151-4531-B5E1-107FD041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ED73-AC1E-4CDE-80A2-36D68FAF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8B0D-6BBA-4073-BADD-DE59CC62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435680" y="27468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E84C-1353-4A2D-8E39-F36BFE7C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DC32-6F28-40AC-B33A-7CA36BC4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E68B-AB5B-4C8B-9A44-3BD32166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EED60-61D8-4C3F-B430-D82E699A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F46F0-03DD-4CF2-8300-C1D94200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241C-C0C3-47B1-9436-73B2BDB0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AE58-1DE1-4A55-A4B0-C275A3828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97080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4356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97080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5E3C-F837-4F73-91F0-58AE527E4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BEF7-9BF2-45CE-B995-F5ABD19C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CB8B-E247-445C-B5C0-2F3B0D1D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CB85-297E-454D-80C7-8B786CE5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5680" y="27468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AF1B-61A3-4977-BD8A-58821BC6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62C2-715D-40E4-A6FA-981B3DE3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642A-5A72-4471-BC50-6F34575B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E372-E2FB-40DE-867A-80B276FF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- Πίτα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" name="7 - Έλλειψη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" name="10 - Κουλούρα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11 - Ορθογώνιο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" name="14 - Ορθογώνιο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l-GR" sz="4300" spc="-1" strike="noStrike">
                <a:solidFill>
                  <a:srgbClr val="572314"/>
                </a:solidFill>
                <a:latin typeface="Gill Sans MT"/>
              </a:rPr>
              <a:t>Kλικ για επεξεργασία του τίτλου</a:t>
            </a: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6EEF7A4-13C5-4D47-853C-32AC3B4FAC63}" type="slidenum">
              <a:rPr b="0" lang="en-US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7 - Έλλειψη"/>
          <p:cNvSpPr/>
          <p:nvPr/>
        </p:nvSpPr>
        <p:spPr>
          <a:xfrm>
            <a:off x="921600" y="1413720"/>
            <a:ext cx="209880" cy="209880"/>
          </a:xfrm>
          <a:prstGeom prst="ellipse">
            <a:avLst/>
          </a:prstGeom>
          <a:gradFill rotWithShape="0">
            <a:gsLst>
              <a:gs pos="0">
                <a:srgbClr val="daf5fe">
                  <a:alpha val="95294"/>
                </a:srgbClr>
              </a:gs>
              <a:gs pos="100000">
                <a:srgbClr val="00aad4">
                  <a:alpha val="85098"/>
                </a:srgbClr>
              </a:gs>
            </a:gsLst>
            <a:path path="circle">
              <a:fillToRect l="25000" t="12000" r="75000" b="88000"/>
            </a:path>
          </a:gradFill>
          <a:ln cap="rnd" w="2000">
            <a:solidFill>
              <a:srgbClr val="3891a7">
                <a:shade val="90000"/>
                <a:satMod val="110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0" name="8 - Έλλειψη"/>
          <p:cNvSpPr/>
          <p:nvPr/>
        </p:nvSpPr>
        <p:spPr>
          <a:xfrm>
            <a:off x="1157040" y="1344960"/>
            <a:ext cx="63720" cy="63720"/>
          </a:xfrm>
          <a:prstGeom prst="ellipse">
            <a:avLst/>
          </a:prstGeom>
          <a:noFill/>
          <a:ln cap="rnd" w="12700">
            <a:solidFill>
              <a:srgbClr val="3891a7">
                <a:shade val="75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- Πίτα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9" name="7 - Έλλειψη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0" name="10 - Κουλούρα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11 - Ορθογώνιο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2" name="14 - Ορθογώνιο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l-GR" sz="4300" spc="-1" strike="noStrike">
                <a:solidFill>
                  <a:srgbClr val="572314"/>
                </a:solidFill>
                <a:latin typeface="Gill Sans MT"/>
              </a:rPr>
              <a:t>Kλικ για επεξεργασία του τίτλου</a:t>
            </a: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l-GR" sz="3200" spc="-1" strike="noStrike">
                <a:solidFill>
                  <a:srgbClr val="000000"/>
                </a:solidFill>
                <a:latin typeface="Gill Sans MT"/>
              </a:rPr>
              <a:t>Kλικ για επεξεργασία των στυλ του υποδείγματο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el-GR" sz="2800" spc="-1" strike="noStrike">
                <a:solidFill>
                  <a:srgbClr val="000000"/>
                </a:solidFill>
                <a:latin typeface="Gill Sans MT"/>
              </a:rPr>
              <a:t>Δεύτερου επιπέδου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Τρίτου επιπέδου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el-GR" sz="2000" spc="-1" strike="noStrike">
                <a:solidFill>
                  <a:srgbClr val="000000"/>
                </a:solidFill>
                <a:latin typeface="Gill Sans MT"/>
              </a:rPr>
              <a:t>Τέταρτου επιπέδου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el-GR" sz="2000" spc="-1" strike="noStrike">
                <a:solidFill>
                  <a:srgbClr val="000000"/>
                </a:solidFill>
                <a:latin typeface="Gill Sans MT"/>
              </a:rPr>
              <a:t>Πέμπτου επιπέδου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A3E1E81-ADBA-4F4C-ADC5-EF03EF4E73AF}" type="slidenum">
              <a:rPr b="0" lang="en-US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772040" cy="13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i="1" lang="el-GR" sz="40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Ασφάλεια</a:t>
            </a:r>
            <a:r>
              <a:rPr b="1" i="1" lang="el-GR" sz="43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Arial Narrow"/>
                <a:ea typeface="Verdana"/>
              </a:rPr>
              <a:t> δικτύου</a:t>
            </a: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6400440" cy="52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rmAutofit fontScale="90000"/>
          </a:bodyPr>
          <a:p>
            <a:pPr marL="26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</a:pPr>
            <a:r>
              <a:rPr b="0" i="1" lang="el-GR" sz="2800" spc="-1" strike="noStrike">
                <a:solidFill>
                  <a:srgbClr val="ff0000"/>
                </a:solidFill>
                <a:latin typeface="Gill Sans MT"/>
              </a:rPr>
              <a:t>Η ασφάλεια δικτύου έχει να κάνει με το</a:t>
            </a:r>
            <a:r>
              <a:rPr b="0" lang="el-GR" sz="2800" spc="-1" strike="noStrike">
                <a:solidFill>
                  <a:srgbClr val="ff0000"/>
                </a:solidFill>
                <a:latin typeface="Gill Sans M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</a:pPr>
            <a:r>
              <a:rPr b="0" lang="el-GR" sz="2600" spc="-1" strike="noStrike">
                <a:solidFill>
                  <a:srgbClr val="000000"/>
                </a:solidFill>
                <a:latin typeface="Gill Sans MT"/>
              </a:rPr>
              <a:t>Πως μπορεί ένα δίκτυο να προστατευτε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</a:pPr>
            <a:r>
              <a:rPr b="0" lang="el-GR" sz="2600" spc="-1" strike="noStrike">
                <a:solidFill>
                  <a:srgbClr val="000000"/>
                </a:solidFill>
                <a:latin typeface="Gill Sans MT"/>
              </a:rPr>
              <a:t>Πως ένα κακόβουλο λογισμικό προσβάλει έναν υπολογιστ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</a:pPr>
            <a:r>
              <a:rPr b="0" i="1" lang="el-GR" sz="2800" spc="-1" strike="noStrike">
                <a:solidFill>
                  <a:srgbClr val="ff0000"/>
                </a:solidFill>
                <a:latin typeface="Gill Sans MT"/>
              </a:rPr>
              <a:t>Αρχικά ήταν αμελητέα η ασφάλεια στο διαδίκτυ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</a:pPr>
            <a:r>
              <a:rPr b="0" lang="el-GR" sz="2600" spc="-1" strike="noStrike">
                <a:solidFill>
                  <a:srgbClr val="000000"/>
                </a:solidFill>
                <a:latin typeface="Gill Sans MT"/>
              </a:rPr>
              <a:t>Στα πρώτα ξεκινήματα του διαδικτύου θεωρείτο αμοιβαία η εμπιστοσύνη μεταξύ των χρηστώ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</a:pPr>
            <a:r>
              <a:rPr b="0" lang="el-GR" sz="2600" spc="-1" strike="noStrike">
                <a:solidFill>
                  <a:srgbClr val="000000"/>
                </a:solidFill>
                <a:latin typeface="Gill Sans MT"/>
              </a:rPr>
              <a:t>Τώρα πια είναι απαραίτητη η ασφάλεια σε όλα τα επίπεδ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l-GR" sz="2600" spc="-1" strike="noStrike">
                <a:solidFill>
                  <a:srgbClr val="ff0000"/>
                </a:solidFill>
                <a:latin typeface="Gill Sans M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l-GR" sz="24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Το </a:t>
            </a:r>
            <a:r>
              <a:rPr b="1" i="1" lang="en-US" sz="24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malware</a:t>
            </a:r>
            <a:r>
              <a:rPr b="1" i="1" lang="el-GR" sz="24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(κακόβουλο λογισμικό) εισέρχεται στους </a:t>
            </a:r>
            <a:r>
              <a:rPr b="1" i="1" lang="en-US" sz="24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hosts </a:t>
            </a:r>
            <a:r>
              <a:rPr b="1" i="1" lang="el-GR" sz="24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μέσω Διαδικτύου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497720" cy="54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</a:pPr>
            <a:r>
              <a:rPr b="0" i="1" lang="el-GR" sz="2400" spc="-1" strike="noStrike">
                <a:solidFill>
                  <a:srgbClr val="ff0000"/>
                </a:solidFill>
                <a:latin typeface="Verdana"/>
                <a:ea typeface="Verdana"/>
              </a:rPr>
              <a:t>Αυτό μπορεί να γίνει μέσω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  <a:ea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</a:pPr>
            <a:r>
              <a:rPr b="0" lang="el-GR" sz="2400" spc="-1" strike="noStrike">
                <a:solidFill>
                  <a:srgbClr val="000000"/>
                </a:solidFill>
                <a:latin typeface="Gill Sans MT"/>
                <a:ea typeface="Verdana"/>
              </a:rPr>
              <a:t>Ιού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Verdana"/>
              </a:rPr>
              <a:t>viru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</a:pPr>
            <a:r>
              <a:rPr b="0" lang="el-GR" sz="2400" spc="-1" strike="noStrike">
                <a:solidFill>
                  <a:srgbClr val="000000"/>
                </a:solidFill>
                <a:latin typeface="Gill Sans MT"/>
                <a:ea typeface="Verdana"/>
              </a:rPr>
              <a:t>Σκουληκιού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Verdana"/>
              </a:rPr>
              <a:t>worm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</a:pPr>
            <a:r>
              <a:rPr b="0" lang="el-GR" sz="2400" spc="-1" strike="noStrike">
                <a:solidFill>
                  <a:srgbClr val="000000"/>
                </a:solidFill>
                <a:latin typeface="Gill Sans MT"/>
                <a:ea typeface="Verdana"/>
              </a:rPr>
              <a:t>Δούρειου ίππου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Verdana"/>
              </a:rPr>
              <a:t>trojan hors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ill Sans MT"/>
                <a:ea typeface="Verdana"/>
              </a:rPr>
              <a:t>Το </a:t>
            </a:r>
            <a:r>
              <a:rPr b="0" i="1" lang="en-US" sz="2400" spc="-1" strike="noStrike">
                <a:solidFill>
                  <a:srgbClr val="ff0000"/>
                </a:solidFill>
                <a:latin typeface="Gill Sans MT"/>
                <a:ea typeface="Verdana"/>
              </a:rPr>
              <a:t>spyware malware </a:t>
            </a:r>
            <a:r>
              <a:rPr b="0" lang="el-GR" sz="2400" spc="-1" strike="noStrike">
                <a:solidFill>
                  <a:srgbClr val="000000"/>
                </a:solidFill>
                <a:latin typeface="Gill Sans MT"/>
                <a:ea typeface="Verdana"/>
              </a:rPr>
              <a:t>είναι ένα είδος </a:t>
            </a:r>
            <a:r>
              <a:rPr b="0" i="1" lang="el-GR" sz="2400" spc="-1" strike="noStrike">
                <a:solidFill>
                  <a:srgbClr val="000000"/>
                </a:solidFill>
                <a:latin typeface="Gill Sans MT"/>
                <a:ea typeface="Verdana"/>
              </a:rPr>
              <a:t>κακόβουλου λογισμικού </a:t>
            </a:r>
            <a:r>
              <a:rPr b="0" lang="el-GR" sz="2400" spc="-1" strike="noStrike">
                <a:solidFill>
                  <a:srgbClr val="000000"/>
                </a:solidFill>
                <a:latin typeface="Gill Sans MT"/>
                <a:ea typeface="Verdana"/>
              </a:rPr>
              <a:t>το οποίο μπορεί να καταγράψει πληροφορίες για χρήστες χωρίς να το ξέρουν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Gill Sans MT"/>
                <a:ea typeface="Verdana"/>
              </a:rPr>
              <a:t>Το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  <a:ea typeface="Verdana"/>
              </a:rPr>
              <a:t>malware</a:t>
            </a:r>
            <a:r>
              <a:rPr b="0" lang="el-GR" sz="2400" spc="-1" strike="noStrike">
                <a:solidFill>
                  <a:srgbClr val="ff0000"/>
                </a:solidFill>
                <a:latin typeface="Gill Sans MT"/>
                <a:ea typeface="Verdana"/>
              </a:rPr>
              <a:t> είναι συχνά αυτοαναπαραγόμενο</a:t>
            </a:r>
            <a:r>
              <a:rPr b="0" lang="el-GR" sz="2400" spc="-1" strike="noStrike">
                <a:solidFill>
                  <a:srgbClr val="000000"/>
                </a:solidFill>
                <a:latin typeface="Gill Sans MT"/>
                <a:ea typeface="Verdana"/>
              </a:rPr>
              <a:t>: από ένα μολυσμένο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Verdana"/>
              </a:rPr>
              <a:t>host </a:t>
            </a:r>
            <a:r>
              <a:rPr b="0" lang="el-GR" sz="2400" spc="-1" strike="noStrike">
                <a:solidFill>
                  <a:srgbClr val="000000"/>
                </a:solidFill>
                <a:latin typeface="Gill Sans MT"/>
                <a:ea typeface="Verdana"/>
              </a:rPr>
              <a:t>προσπαθεί να εισέλθει σε άλλους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Verdana"/>
              </a:rPr>
              <a:t>host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l-GR" sz="28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Ιός, Σκουλήκι, Δούρειος ίππο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7497720" cy="56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marL="343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el-GR" sz="3200" spc="-1" strike="noStrike" u="sng">
                <a:solidFill>
                  <a:srgbClr val="ff0000"/>
                </a:solidFill>
                <a:uFillTx/>
                <a:latin typeface="Gill Sans MT"/>
              </a:rPr>
              <a:t>Ιός(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Gill Sans MT"/>
              </a:rPr>
              <a:t>virus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800" indent="-266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Gill Sans MT"/>
              </a:rPr>
              <a:t>Λαμβάνοντας αντικείμενο που εκτελείται ενεργά            (π.χ.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e-mail</a:t>
            </a:r>
            <a:r>
              <a:rPr b="0" i="1" lang="el-GR" sz="2400" spc="-1" strike="noStrike">
                <a:solidFill>
                  <a:srgbClr val="000000"/>
                </a:solidFill>
                <a:latin typeface="Gill Sans MT"/>
              </a:rPr>
              <a:t>) μολύνει τον υπολογιστή.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800" indent="-266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Gill Sans MT"/>
              </a:rPr>
              <a:t>Διαδίδεται από μόνο του σε άλλους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hosts</a:t>
            </a:r>
            <a:r>
              <a:rPr b="0" i="1" lang="el-GR" sz="2400" spc="-1" strike="noStrike">
                <a:solidFill>
                  <a:srgbClr val="000000"/>
                </a:solidFill>
                <a:latin typeface="Gill Sans MT"/>
              </a:rPr>
              <a:t>, χρήστε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el-GR" sz="3200" spc="-1" strike="noStrike" u="sng">
                <a:solidFill>
                  <a:srgbClr val="ff0000"/>
                </a:solidFill>
                <a:uFillTx/>
                <a:latin typeface="Gill Sans MT"/>
              </a:rPr>
              <a:t>Σκουλήκι(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Gill Sans MT"/>
              </a:rPr>
              <a:t>worm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Gill Sans M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800" indent="-266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Μόλυνση από παθητικά λαμβανόμενο αντικείμενο που εκτελείται χωρίς αλληλεπίδραση με το χρήστη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800" indent="-266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Διαδίδεται από μόνο τους σε άλλους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el-GR" sz="3200" spc="-1" strike="noStrike" u="sng">
                <a:solidFill>
                  <a:srgbClr val="ff0000"/>
                </a:solidFill>
                <a:uFillTx/>
                <a:latin typeface="Gill Sans MT"/>
              </a:rPr>
              <a:t>Δούρειος ίππος(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Gill Sans MT"/>
              </a:rPr>
              <a:t>trojan horse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800" indent="-266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Κρυμμένο τμήμα ενός γενικά χρήσιμου λογισμικού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l-GR" sz="28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Επίθεση κακόβουλου λογισμικού σε </a:t>
            </a:r>
            <a:r>
              <a:rPr b="1" i="1" lang="en-US" sz="28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servers </a:t>
            </a:r>
            <a:r>
              <a:rPr b="1" i="1" lang="el-GR" sz="28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και σε δικτυακή υποδομή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</a:pPr>
            <a:r>
              <a:rPr b="0" i="1" lang="el-GR" sz="2400" spc="-1" strike="noStrike">
                <a:solidFill>
                  <a:srgbClr val="ff0000"/>
                </a:solidFill>
                <a:latin typeface="Gill Sans MT"/>
              </a:rPr>
              <a:t>Άρνηση υπηρεσίας(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Gill Sans MT"/>
              </a:rPr>
              <a:t>D</a:t>
            </a: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enial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Gill Sans MT"/>
              </a:rPr>
              <a:t>o</a:t>
            </a: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f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Gill Sans MT"/>
              </a:rPr>
              <a:t>S</a:t>
            </a: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ervice):</a:t>
            </a: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οι επιτιθέμενοι καθιστούν τους πόρους μη διαθέσιμους σε νόμιμη κίνηση δημιουργώντας σαρωτική πλαστή κίνηση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39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3 - Εικόνα"/>
          <p:cNvSpPr/>
          <p:nvPr/>
        </p:nvSpPr>
        <p:spPr>
          <a:xfrm>
            <a:off x="2666880" y="2971800"/>
            <a:ext cx="4228920" cy="327636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28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Packet sniffing(</a:t>
            </a:r>
            <a:r>
              <a:rPr b="1" i="1" lang="el-GR" sz="28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«ανακάλυψη» πακέτων), </a:t>
            </a:r>
            <a:r>
              <a:rPr b="1" i="1" lang="en-US" sz="28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IP spoofing(</a:t>
            </a:r>
            <a:r>
              <a:rPr b="1" i="1" lang="el-GR" sz="28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παραπλάνηση </a:t>
            </a:r>
            <a:r>
              <a:rPr b="1" i="1" lang="en-US" sz="28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IP</a:t>
            </a:r>
            <a:r>
              <a:rPr b="1" i="1" lang="el-GR" sz="28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7497720" cy="57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361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Verdana"/>
                <a:ea typeface="Verdana"/>
              </a:rPr>
              <a:t>Packet Sniff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-280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  <a:ea typeface="Verdana"/>
              </a:rPr>
              <a:t>Μέσα ευρυεκπομπής (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Verdana"/>
              </a:rPr>
              <a:t>shared Ethernet, </a:t>
            </a:r>
            <a:r>
              <a:rPr b="0" lang="el-GR" sz="2400" spc="-1" strike="noStrike">
                <a:solidFill>
                  <a:srgbClr val="000000"/>
                </a:solidFill>
                <a:latin typeface="Corbel"/>
                <a:ea typeface="Verdana"/>
              </a:rPr>
              <a:t>ασύρματο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-280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  <a:ea typeface="Verdana"/>
              </a:rPr>
              <a:t>Η δικτυακή επαφή «παραβάτης» καταγράφει όλα τα πακέτα που περνούν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Verdana"/>
                <a:ea typeface="Verdana"/>
              </a:rPr>
              <a:t>IP Spoof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-280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  <a:ea typeface="Verdana"/>
              </a:rPr>
              <a:t>Αποστολή πακέτου με λάθος διεύθυνση πηγή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el-GR" sz="24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Καταγραφή και Αναπαραγωγή από κακόβουλο λογισμικό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-280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0"/>
              </a:tabLst>
            </a:pPr>
            <a:r>
              <a:rPr b="0" i="1" lang="el-GR" sz="2000" spc="-1" strike="noStrike" u="sng">
                <a:solidFill>
                  <a:srgbClr val="ff0000"/>
                </a:solidFill>
                <a:uFillTx/>
                <a:latin typeface="Verdana"/>
                <a:ea typeface="Verdana"/>
              </a:rPr>
              <a:t>Καταγραφή και αναπαραγωγή(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Verdana"/>
                <a:ea typeface="Verdana"/>
              </a:rPr>
              <a:t>record-and-playback)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  <a:ea typeface="Verdana"/>
              </a:rPr>
              <a:t>Γίνεται καταγραφή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sniff)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  <a:ea typeface="Verdana"/>
              </a:rPr>
              <a:t> ευαίσθητης πληροφορίας (π.χ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Password) 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  <a:ea typeface="Verdana"/>
              </a:rPr>
              <a:t>και τη χρησιμοποιούν αργότερα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el-GR" sz="36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Προστασία από το κακόβουλο λογισμικό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040520" cy="54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Verdana"/>
                <a:ea typeface="Verdana"/>
              </a:rPr>
              <a:t>   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Verdana"/>
                <a:ea typeface="Verdana"/>
              </a:rPr>
              <a:t>Antivirus software(</a:t>
            </a:r>
            <a:r>
              <a:rPr b="0" i="1" lang="el-GR" sz="2800" spc="-1" strike="noStrike" u="sng">
                <a:solidFill>
                  <a:srgbClr val="ff0000"/>
                </a:solidFill>
                <a:uFillTx/>
                <a:latin typeface="Verdana"/>
                <a:ea typeface="Verdana"/>
              </a:rPr>
              <a:t>λογισμικό προστασίας από ιούς)</a:t>
            </a:r>
            <a:r>
              <a:rPr b="0" lang="el-GR" sz="2800" spc="-1" strike="noStrike">
                <a:solidFill>
                  <a:srgbClr val="ff0000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orbel"/>
                <a:ea typeface="Verdana"/>
              </a:rPr>
              <a:t>Το λογισμικό αυτό χρησιμοποιείται για την πρόληψη, ανίχνευση και απομάκρυνση του κακόβουλου λογισμικού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7" name="3 - Εικόνα" descr="th_antivirus.gif"/>
          <p:cNvPicPr/>
          <p:nvPr/>
        </p:nvPicPr>
        <p:blipFill>
          <a:blip r:embed="rId1"/>
          <a:stretch/>
        </p:blipFill>
        <p:spPr>
          <a:xfrm>
            <a:off x="3124080" y="3657600"/>
            <a:ext cx="3885840" cy="266652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l-GR" sz="32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Verdana"/>
                <a:ea typeface="Verdana"/>
              </a:rPr>
              <a:t>Προστασία από το κακόβουλο λογισμικό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i="1" lang="el-GR" sz="2800" spc="-1" strike="noStrike" u="sng">
                <a:solidFill>
                  <a:srgbClr val="ff0000"/>
                </a:solidFill>
                <a:uFillTx/>
                <a:latin typeface="Verdana"/>
                <a:ea typeface="Verdana"/>
              </a:rPr>
              <a:t>Firewall(τείχος προστασίας ενάντια στο κακόβουλο λογισμικό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ill Sans MT"/>
                <a:ea typeface="Verdana"/>
              </a:rPr>
              <a:t>Το λογισμικό αυτό ελέγχει την εισερχόμενη και εξερχόμενη κίνηση στο δίκτυο αναλύοντας τα πακέτα δεδομένων και καθορίζοντας αν πρέπει να περάσουν ή όχι σύμφωνα με τους προκαθορισμένους κανόνες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0" name="3 - Εικόνα" descr="Firewall.png"/>
          <p:cNvPicPr/>
          <p:nvPr/>
        </p:nvPicPr>
        <p:blipFill>
          <a:blip r:embed="rId1"/>
          <a:stretch/>
        </p:blipFill>
        <p:spPr>
          <a:xfrm>
            <a:off x="3048120" y="4343400"/>
            <a:ext cx="3885840" cy="2285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Ηλιοστάσιο">
  <a:themeElements>
    <a:clrScheme name="Ηλιοστάσιο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Ηλιοστάσιο">
  <a:themeElements>
    <a:clrScheme name="Ηλιοστάσιο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olstice</Template>
  <TotalTime>235</TotalTime>
  <Application>LibreOffice/7.4.7.2$Linux_X86_64 LibreOffice_project/40$Build-2</Application>
  <AppVersion>15.0000</AppVersion>
  <Words>355</Words>
  <Paragraphs>48</Paragraphs>
  <Company>Goldfish_92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8T20:01:58Z</dcterms:created>
  <dc:creator>giannhs</dc:creator>
  <dc:description/>
  <dc:language>en-US</dc:language>
  <cp:lastModifiedBy>giannhs</cp:lastModifiedBy>
  <dcterms:modified xsi:type="dcterms:W3CDTF">2012-05-29T18:47:33Z</dcterms:modified>
  <cp:revision>51</cp:revision>
  <dc:subject/>
  <dc:title>Ασφάλεια δικτύο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Προβολή στην οθόνη (4:3)</vt:lpwstr>
  </property>
  <property fmtid="{D5CDD505-2E9C-101B-9397-08002B2CF9AE}" pid="3" name="Slides">
    <vt:r8>7</vt:r8>
  </property>
</Properties>
</file>