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CB6-2273-406B-BA8A-8FE33A69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635-AFB1-46E0-BDF4-2C387388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D4B-E02F-468A-95DE-55BD0EC3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903-39E8-4944-80DA-FD4A5422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9205-8DF6-4E09-BDCC-C5F4834C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53B2-F955-428B-8588-F937C0D8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F17B-7EF8-4BEE-B281-715E9C09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9705-6B6E-4A7C-A5EA-137A17CF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BFD2-2DA1-4377-BC9B-2EFC9787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A42A-EBE4-4680-9504-806EFD94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8DDB-BB19-4858-B636-651F567C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D80-F50C-49FD-A8AF-0D627592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FEDB-3AF4-4773-A05B-D87CB5C3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BB63-7B32-421B-998A-A4243173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E95F-D919-413E-903D-7A6125F2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91E9-AC18-4894-B2B5-58B575DC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68C1-434B-4900-BBAD-C1AD0E15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A69-B2E3-4B2D-9E36-9521B58C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7D6-40BF-4FB1-8B38-350C9527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673-85CB-4E51-844B-0C9D4171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034-FAB7-480D-B0CE-53F8A8C1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197-38A5-4EAF-B5DF-1F8C8A52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655-C879-4F44-9961-7FC766D3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2D7-3FFC-4D6C-836C-38CF2E63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- Πίτα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7 - Έλλειψη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10 - Κουλούρα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11 - Ορθογώνιο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14 - Ορθογώνιο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l-GR" sz="4300" spc="-1" strike="noStrike">
                <a:solidFill>
                  <a:srgbClr val="572314"/>
                </a:solidFill>
                <a:latin typeface="Gill Sans MT"/>
              </a:rPr>
              <a:t>Kλικ για επεξεργασία του τίτλ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84DAE5A-1392-4C6E-86EB-87BAAD90149D}" type="slidenum"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7 - Έλλειψη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8 - Έλλειψη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- Πίτα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7 - Έλλειψη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10 - Κουλούρα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11 - Ορθογώνιο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14 - Ορθογώνιο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l-GR" sz="4300" spc="-1" strike="noStrike">
                <a:solidFill>
                  <a:srgbClr val="572314"/>
                </a:solidFill>
                <a:latin typeface="Gill Sans MT"/>
              </a:rPr>
              <a:t>Kλικ για επεξεργασία του τίτλ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l-GR" sz="3200" spc="-1" strike="noStrike">
                <a:solidFill>
                  <a:srgbClr val="000000"/>
                </a:solidFill>
                <a:latin typeface="Gill Sans MT"/>
              </a:rPr>
              <a:t>Kλικ για επεξεργασία των στυλ του υποδείγματο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l-GR" sz="2800" spc="-1" strike="noStrike">
                <a:solidFill>
                  <a:srgbClr val="000000"/>
                </a:solidFill>
                <a:latin typeface="Gill Sans MT"/>
              </a:rPr>
              <a:t>Δεύτερου επιπέδο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Τρίτου επιπέδο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Τέταρτου επιπέδου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Πέμπτου επιπέδου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8966339-AC57-41BE-8894-EECE7F0474EC}" type="slidenum"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040" cy="13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l-GR" sz="40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Ασφάλεια</a:t>
            </a:r>
            <a:r>
              <a:rPr b="1" i="1" lang="el-GR" sz="43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Arial Narrow"/>
                <a:ea typeface="Verdana"/>
              </a:rPr>
              <a:t> δικτύ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44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0000"/>
          </a:bodyPr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800" spc="-1" strike="noStrike">
                <a:solidFill>
                  <a:srgbClr val="ff0000"/>
                </a:solidFill>
                <a:latin typeface="Gill Sans MT"/>
              </a:rPr>
              <a:t>Η ασφάλεια δικτύου έχει να κάνει με το</a:t>
            </a:r>
            <a:r>
              <a:rPr b="0" lang="el-GR" sz="2800" spc="-1" strike="noStrike">
                <a:solidFill>
                  <a:srgbClr val="ff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Πως μπορεί ένα δίκτυο να προστατευτε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Πως ένα κακόβουλο λογισμικό προσβάλει έναν υπολογιστ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800" spc="-1" strike="noStrike">
                <a:solidFill>
                  <a:srgbClr val="ff0000"/>
                </a:solidFill>
                <a:latin typeface="Gill Sans MT"/>
              </a:rPr>
              <a:t>Αρχικά ήταν αμελητέα η ασφάλεια στο διαδίκτυ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Στα πρώτα ξεκινήματα του διαδικτύου θεωρείτο αμοιβαία η εμπιστοσύνη μεταξύ των χρη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Τώρα πια είναι απαραίτητη η ασφάλεια σε όλα τα επίπεδ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Το </a:t>
            </a:r>
            <a:r>
              <a:rPr b="1" i="1" lang="en-US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malware</a:t>
            </a: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(κακόβουλο λογισμικό) εισέρχεται στους </a:t>
            </a:r>
            <a:r>
              <a:rPr b="1" i="1" lang="en-US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hosts </a:t>
            </a: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μέσω Διαδικτύου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497720" cy="54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400" spc="-1" strike="noStrike">
                <a:solidFill>
                  <a:srgbClr val="ff0000"/>
                </a:solidFill>
                <a:latin typeface="Verdana"/>
                <a:ea typeface="Verdana"/>
              </a:rPr>
              <a:t>Αυτό μπορεί να γίνει μέσω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Ιού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viru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Σκουληκιού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wor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Δούρειου ίππου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trojan hors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spyware malware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είναι ένα είδος 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κακόβουλου λογισμικού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οποίο μπορεί να καταγράψει πληροφορίες για χρήστες χωρίς να το ξέρου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Το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malware</a:t>
            </a:r>
            <a:r>
              <a:rPr b="0" lang="el-GR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 είναι συχνά αυτοαναπαραγόμενο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: από ένα μολυσμένο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host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προσπαθεί να εισέλθει σε άλλου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hos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Ιός, Σκουλήκι, Δούρειος ίππο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49772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Ιός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viru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Λαμβάνοντας αντικείμενο που εκτελείται ενεργά            (π.χ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-mail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) μολύνει τον υπολογιστή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Διαδίδεται από μόνο του σε άλλους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hosts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, χρήστε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Σκουλήκι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worm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Μόλυνση από παθητικά λαμβανόμενο αντικείμενο που εκτελείται χωρίς αλληλεπίδραση με το χρήστη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Διαδίδεται από μόνο τους σε άλλου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Δούρειος ίππος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trojan hors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Κρυμμένο τμήμα ενός γενικά χρήσιμου λογισμικού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Επίθεση κακόβουλου λογισμικού σε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servers 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και σε δικτυακή υποδομ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400" spc="-1" strike="noStrike">
                <a:solidFill>
                  <a:srgbClr val="ff0000"/>
                </a:solidFill>
                <a:latin typeface="Gill Sans MT"/>
              </a:rPr>
              <a:t>Άρνηση υπηρεσίας(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D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enial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o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f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S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ervice):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οι επιτιθέμενοι καθιστούν τους πόρους μη διαθέσιμους σε νόμιμη κίνηση δημιουργώντας σαρωτική πλαστή κίνηση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3 - Εικόνα"/>
          <p:cNvSpPr/>
          <p:nvPr/>
        </p:nvSpPr>
        <p:spPr>
          <a:xfrm>
            <a:off x="2666880" y="2971800"/>
            <a:ext cx="4228920" cy="3276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Packet sniffing(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«ανακάλυψη» πακέτων),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IP spoofing(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αραπλάνηση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IP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49772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Packet Sniff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Μέσα ευρυεκπομπής (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Verdana"/>
              </a:rPr>
              <a:t>shared Ethernet,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ασύρματο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Η δικτυακή επαφή «παραβάτης» καταγράφει όλα τα πακέτα που περνού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IP Spoof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Αποστολή πακέτου με λάθος διεύθυνση πηγή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Καταγραφή και Αναπαραγωγή από κακόβουλο λογισμικ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Καταγραφή και αναπαραγωγή(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record-and-playback)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Γίνεται καταγραφή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sniff)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 ευαίσθητης πληροφορίας (π.χ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Password)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και τη χρησιμοποιούν αργότερα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36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ροστασία από το κακόβουλο λογισμικό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040520" cy="54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Verdana"/>
                <a:ea typeface="Verdana"/>
              </a:rPr>
              <a:t>  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ntivirus software(</a:t>
            </a:r>
            <a:r>
              <a:rPr b="0" i="1" lang="el-GR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λογισμικό προστασίας από ιούς)</a:t>
            </a:r>
            <a:r>
              <a:rPr b="0" lang="el-GR" sz="28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Το λογισμικό αυτό χρησιμοποιείται για την πρόληψη, ανίχνευση και απομάκρυνση του κακόβουλου λογισμικού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7" name="3 - Εικόνα" descr="th_antivirus.gif"/>
          <p:cNvPicPr/>
          <p:nvPr/>
        </p:nvPicPr>
        <p:blipFill>
          <a:blip r:embed="rId1"/>
          <a:stretch/>
        </p:blipFill>
        <p:spPr>
          <a:xfrm>
            <a:off x="3124080" y="3657600"/>
            <a:ext cx="3885840" cy="266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32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ροστασία από το κακόβουλο λογισμικ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el-GR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Firewall(τείχος προστασίας ενάντια στο κακόβουλο λογισμικό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λογισμικό αυτό ελέγχει την εισερχόμενη και εξερχόμενη κίνηση στο δίκτυο αναλύοντας τα πακέτα δεδομένων και καθορίζοντας αν πρέπει να περάσουν ή όχι σύμφωνα με τους προκαθορισμένους κανόνες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3 - Εικόνα" descr="Firewall.png"/>
          <p:cNvPicPr/>
          <p:nvPr/>
        </p:nvPicPr>
        <p:blipFill>
          <a:blip r:embed="rId1"/>
          <a:stretch/>
        </p:blipFill>
        <p:spPr>
          <a:xfrm>
            <a:off x="3048120" y="4343400"/>
            <a:ext cx="3885840" cy="228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Ηλιοστάσιο">
  <a:themeElements>
    <a:clrScheme name="Ηλιοστάσιο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Ηλιοστάσιο">
  <a:themeElements>
    <a:clrScheme name="Ηλιοστάσιο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235</TotalTime>
  <Application>LibreOffice/7.4.7.2$Linux_X86_64 LibreOffice_project/40$Build-2</Application>
  <AppVersion>15.0000</AppVersion>
  <Words>355</Words>
  <Paragraphs>48</Paragraphs>
  <Company>Goldfish_92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20:01:58Z</dcterms:created>
  <dc:creator>giannhs</dc:creator>
  <dc:description/>
  <dc:language>en-US</dc:language>
  <cp:lastModifiedBy>giannhs</cp:lastModifiedBy>
  <dcterms:modified xsi:type="dcterms:W3CDTF">2012-05-29T18:47:33Z</dcterms:modified>
  <cp:revision>51</cp:revision>
  <dc:subject/>
  <dc:title>Ασφάλεια δικτύο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Προβολή στην οθόνη (4:3)</vt:lpwstr>
  </property>
  <property fmtid="{D5CDD505-2E9C-101B-9397-08002B2CF9AE}" pid="3" name="Slides">
    <vt:r8>7</vt:r8>
  </property>
</Properties>
</file>