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317-3775-4204-82B7-10CD8715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568-9133-4FB9-9101-BFF7FDDB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706-0841-47F7-8274-2C0E27EB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3ED-01E9-412D-91C6-E70FA555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40D7-F7BD-473B-BC67-9185E6CC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1C39-76F6-4A94-B2A1-EA77DDD9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45AC-BF92-4061-BE26-480D7076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A3A6-8436-4311-89E1-3E03B791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EEB0-B393-4406-B764-0F4B83DC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747C-AED9-4D5E-B579-28A2FD62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44BC-DAD9-4376-BD61-7CA5C2D3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34D-2346-43D9-AF28-E0B7B228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1C3F-38F9-48BC-A1FB-254C0ABD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5A56-3D60-4D12-91DD-8371EBB8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1601-F238-41D5-95E2-BBCF40FD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1598-AB2E-4C5A-9238-3EFD8FB1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D24F-9E63-4B92-AABA-8534938F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72C-793A-44B2-AE8B-A2C1A971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A54-F658-4A5B-A44D-B811757F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9DA-776A-4E16-9ECA-A939971F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14D-D5DD-4F89-ABA0-8D91B90C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ABC-CBCA-4F51-AAD2-E5FD9B61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F47-64F7-401E-B82C-DF0F0B6E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63C-C369-40B8-82A9-9D076AA3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- Πίτα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7 - Έλλειψη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10 - Κουλούρα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11 - Ορθογώνιο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14 - Ορθογώνιο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l-GR" sz="4300" spc="-1" strike="noStrike">
                <a:solidFill>
                  <a:srgbClr val="572314"/>
                </a:solidFill>
                <a:latin typeface="Gill Sans MT"/>
              </a:rPr>
              <a:t>Kλικ για επεξεργασία του τίτλ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CC03BA-DD9E-4D9B-896B-8BE89FE06452}" type="slidenum"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7 - Έλλειψη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8 - Έλλειψη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- Πίτα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7 - Έλλειψη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10 - Κουλούρα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11 - Ορθογώνιο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14 - Ορθογώνιο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l-GR" sz="4300" spc="-1" strike="noStrike">
                <a:solidFill>
                  <a:srgbClr val="572314"/>
                </a:solidFill>
                <a:latin typeface="Gill Sans MT"/>
              </a:rPr>
              <a:t>Kλικ για επεξεργασία του τίτλ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l-GR" sz="3200" spc="-1" strike="noStrike">
                <a:solidFill>
                  <a:srgbClr val="000000"/>
                </a:solidFill>
                <a:latin typeface="Gill Sans MT"/>
              </a:rPr>
              <a:t>Kλικ για επεξεργασία των στυλ του υποδείγματο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l-GR" sz="2800" spc="-1" strike="noStrike">
                <a:solidFill>
                  <a:srgbClr val="000000"/>
                </a:solidFill>
                <a:latin typeface="Gill Sans MT"/>
              </a:rPr>
              <a:t>Δεύτερου επιπέδο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Τρίτου επιπέδο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Τέταρτου επιπέδου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Πέμπτου επιπέδου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2149E61-F221-4230-AA38-D92F38180184}" type="slidenum"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040" cy="13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l-GR" sz="40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Ασφάλεια</a:t>
            </a:r>
            <a:r>
              <a:rPr b="1" i="1" lang="el-GR" sz="43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Arial Narrow"/>
                <a:ea typeface="Verdana"/>
              </a:rPr>
              <a:t> δικτύ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44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0000"/>
          </a:bodyPr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800" spc="-1" strike="noStrike">
                <a:solidFill>
                  <a:srgbClr val="ff0000"/>
                </a:solidFill>
                <a:latin typeface="Gill Sans MT"/>
              </a:rPr>
              <a:t>Η ασφάλεια δικτύου έχει να κάνει με το</a:t>
            </a:r>
            <a:r>
              <a:rPr b="0" lang="el-GR" sz="2800" spc="-1" strike="noStrike">
                <a:solidFill>
                  <a:srgbClr val="ff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Πως μπορεί ένα δίκτυο να προστατευτε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Πως ένα κακόβουλο λογισμικό προσβάλει έναν υπολογιστ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800" spc="-1" strike="noStrike">
                <a:solidFill>
                  <a:srgbClr val="ff0000"/>
                </a:solidFill>
                <a:latin typeface="Gill Sans MT"/>
              </a:rPr>
              <a:t>Αρχικά ήταν αμελητέα η ασφάλεια στο διαδίκτυ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Στα πρώτα ξεκινήματα του διαδικτύου θεωρείτο αμοιβαία η εμπιστοσύνη μεταξύ των χρη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Τώρα πια είναι απαραίτητη η ασφάλεια σε όλα τα επίπεδ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Το </a:t>
            </a:r>
            <a:r>
              <a:rPr b="1" i="1" lang="en-US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malware</a:t>
            </a: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(κακόβουλο λογισμικό) εισέρχεται στους </a:t>
            </a:r>
            <a:r>
              <a:rPr b="1" i="1" lang="en-US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hosts </a:t>
            </a: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μέσω Διαδικτύου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497720" cy="54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400" spc="-1" strike="noStrike">
                <a:solidFill>
                  <a:srgbClr val="ff0000"/>
                </a:solidFill>
                <a:latin typeface="Verdana"/>
                <a:ea typeface="Verdana"/>
              </a:rPr>
              <a:t>Αυτό μπορεί να γίνει μέσω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Ιού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viru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Σκουληκιού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wor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Δούρειου ίππου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trojan hors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spyware malware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είναι ένα είδος 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κακόβουλου λογισμικού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οποίο μπορεί να καταγράψει πληροφορίες για χρήστες χωρίς να το ξέρου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Το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malware</a:t>
            </a:r>
            <a:r>
              <a:rPr b="0" lang="el-GR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 είναι συχνά αυτοαναπαραγόμενο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: από ένα μολυσμένο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host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προσπαθεί να εισέλθει σε άλλου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hos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Ιός, Σκουλήκι, Δούρειος ίππο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49772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Ιός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viru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Λαμβάνοντας αντικείμενο που εκτελείται ενεργά            (π.χ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-mail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) μολύνει τον υπολογιστή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Διαδίδεται από μόνο του σε άλλους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hosts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, χρήστε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Σκουλήκι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worm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Μόλυνση από παθητικά λαμβανόμενο αντικείμενο που εκτελείται χωρίς αλληλεπίδραση με το χρήστη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Διαδίδεται από μόνο τους σε άλλου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Δούρειος ίππος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trojan hors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Κρυμμένο τμήμα ενός γενικά χρήσιμου λογισμικού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Επίθεση κακόβουλου λογισμικού σε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servers 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και σε δικτυακή υποδομ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400" spc="-1" strike="noStrike">
                <a:solidFill>
                  <a:srgbClr val="ff0000"/>
                </a:solidFill>
                <a:latin typeface="Gill Sans MT"/>
              </a:rPr>
              <a:t>Άρνηση υπηρεσίας(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D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enial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o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f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S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ervice):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οι επιτιθέμενοι καθιστούν τους πόρους μη διαθέσιμους σε νόμιμη κίνηση δημιουργώντας σαρωτική πλαστή κίνηση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3 - Εικόνα"/>
          <p:cNvSpPr/>
          <p:nvPr/>
        </p:nvSpPr>
        <p:spPr>
          <a:xfrm>
            <a:off x="2666880" y="2971800"/>
            <a:ext cx="4228920" cy="3276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Packet sniffing(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«ανακάλυψη» πακέτων),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IP spoofing(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αραπλάνηση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IP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49772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Packet Sniff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Μέσα ευρυεκπομπής (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Verdana"/>
              </a:rPr>
              <a:t>shared Ethernet,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ασύρματο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Η δικτυακή επαφή «παραβάτης» καταγράφει όλα τα πακέτα που περνού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IP Spoof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Αποστολή πακέτου με λάθος διεύθυνση πηγή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Καταγραφή και Αναπαραγωγή από κακόβουλο λογισμικ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Καταγραφή και αναπαραγωγή(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record-and-playback)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Γίνεται καταγραφή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sniff)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 ευαίσθητης πληροφορίας (π.χ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Password)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και τη χρησιμοποιούν αργότερα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36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ροστασία από το κακόβουλο λογισμικό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040520" cy="54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Verdana"/>
                <a:ea typeface="Verdana"/>
              </a:rPr>
              <a:t>  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ntivirus software(</a:t>
            </a:r>
            <a:r>
              <a:rPr b="0" i="1" lang="el-GR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λογισμικό προστασίας από ιούς)</a:t>
            </a:r>
            <a:r>
              <a:rPr b="0" lang="el-GR" sz="28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Το λογισμικό αυτό χρησιμοποιείται για την πρόληψη, ανίχνευση και απομάκρυνση του κακόβουλου λογισμικού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7" name="3 - Εικόνα" descr="th_antivirus.gif"/>
          <p:cNvPicPr/>
          <p:nvPr/>
        </p:nvPicPr>
        <p:blipFill>
          <a:blip r:embed="rId1"/>
          <a:stretch/>
        </p:blipFill>
        <p:spPr>
          <a:xfrm>
            <a:off x="3124080" y="3657600"/>
            <a:ext cx="3885840" cy="266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32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ροστασία από το κακόβουλο λογισμικ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el-GR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Firewall(τείχος προστασίας ενάντια στο κακόβουλο λογισμικό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λογισμικό αυτό ελέγχει την εισερχόμενη και εξερχόμενη κίνηση στο δίκτυο αναλύοντας τα πακέτα δεδομένων και καθορίζοντας αν πρέπει να περάσουν ή όχι σύμφωνα με τους προκαθορισμένους κανόνες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3 - Εικόνα" descr="Firewall.png"/>
          <p:cNvPicPr/>
          <p:nvPr/>
        </p:nvPicPr>
        <p:blipFill>
          <a:blip r:embed="rId1"/>
          <a:stretch/>
        </p:blipFill>
        <p:spPr>
          <a:xfrm>
            <a:off x="3048120" y="4343400"/>
            <a:ext cx="3885840" cy="228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Ηλιοστάσιο">
  <a:themeElements>
    <a:clrScheme name="Ηλιοστάσιο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Ηλιοστάσιο">
  <a:themeElements>
    <a:clrScheme name="Ηλιοστάσιο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235</TotalTime>
  <Application>LibreOffice/7.4.7.2$Linux_X86_64 LibreOffice_project/40$Build-2</Application>
  <AppVersion>15.0000</AppVersion>
  <Words>355</Words>
  <Paragraphs>48</Paragraphs>
  <Company>Goldfish_92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20:01:58Z</dcterms:created>
  <dc:creator>giannhs</dc:creator>
  <dc:description/>
  <dc:language>en-US</dc:language>
  <cp:lastModifiedBy>giannhs</cp:lastModifiedBy>
  <dcterms:modified xsi:type="dcterms:W3CDTF">2012-05-29T18:47:33Z</dcterms:modified>
  <cp:revision>51</cp:revision>
  <dc:subject/>
  <dc:title>Ασφάλεια δικτύο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Προβολή στην οθόνη (4:3)</vt:lpwstr>
  </property>
  <property fmtid="{D5CDD505-2E9C-101B-9397-08002B2CF9AE}" pid="3" name="Slides">
    <vt:r8>7</vt:r8>
  </property>
</Properties>
</file>