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A6E-32D2-4E46-81CD-DE29564B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212-D020-4998-8611-E2F02887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E68-0475-4CFD-82C9-886DE32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3B-45D9-403A-9567-25DF68E9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0E00-FC40-4DA8-8B68-20A8DE6E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AA29-B369-4A8B-A7C2-A9959B1A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268-4FD1-4899-B673-D869931D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148-3BEC-4662-B0ED-7CEE6E2E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4A37-3207-485E-A364-BF09C0B4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53B-03D9-470D-8FD4-21B4D44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B5E-2CB8-45AF-BE7C-E50A75D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828-3445-4F67-9FCE-0B85B157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5D4-F63A-4B2D-A5D5-AAACE0D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4FF-0914-4612-AC12-0B233E7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326-A0B4-46B7-93E4-E22CD79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5F4A-511A-4862-86CE-9D3180D4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98F-3648-4EE1-B526-A3984596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E93-D961-413C-A149-8F3EAC8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E24-780B-44A4-800B-66D46649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256-E602-4B73-A073-1AD8427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DF3-85B7-4956-9335-EE309A3C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EDE-5D79-441F-A082-8E523E4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AFA-C6E1-4CA1-B52A-E018362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51B-4F06-470B-BC6C-F5B5D15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6236B7-6F4A-46F7-8768-4A700639A4F2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7 - Έλλειψη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8 - Έλλειψη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Kλικ για επεξεργασία των στυλ του υποδείγματο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l-GR" sz="2800" spc="-1" strike="noStrike">
                <a:solidFill>
                  <a:srgbClr val="000000"/>
                </a:solidFill>
                <a:latin typeface="Gill Sans MT"/>
              </a:rPr>
              <a:t>Δεύτερου επιπέδο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Τρίτου επιπέδ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Τέταρ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Πέμπ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84A9B2-9F52-4076-A000-40A6BECD3947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04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l-GR" sz="4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Ασφάλεια</a:t>
            </a:r>
            <a:r>
              <a:rPr b="1" i="1" lang="el-GR" sz="43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Arial Narrow"/>
                <a:ea typeface="Verdana"/>
              </a:rPr>
              <a:t> δικτύ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4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0000"/>
          </a:bodyPr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Η ασφάλεια δικτύου έχει να κάνει με το</a:t>
            </a:r>
            <a:r>
              <a:rPr b="0" lang="el-GR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μπορεί ένα δίκτυο να προστατευτε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ένα κακόβουλο λογισμικό προσβάλει έναν υπολογιστ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Αρχικά ήταν αμελητέα η ασφάλεια στο διαδίκτυ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Στα πρώτα ξεκινήματα του διαδικτύου θεωρείτο αμοιβαία η εμπιστοσύνη μεταξύ των χρη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Τώρα πια είναι απαραίτητη η ασφάλεια σε όλα τα επίπεδ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Το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malware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(κακόβουλο λογισμικό) εισέρχεται στους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hosts 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μέσω Διαδικτύο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4977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Verdana"/>
                <a:ea typeface="Verdana"/>
              </a:rPr>
              <a:t>Αυτό μπορεί να γίνει μέσω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viru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Σκουληκ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wor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Δούρειου ίππου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trojan hors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spyware malware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είναι ένα είδος 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κακόβουλου λογισμικού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οποίο μπορεί να καταγράψει πληροφορίες για χρήστες χωρίς να το ξέρου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Το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malware</a:t>
            </a: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 είναι συχνά αυτοαναπαραγόμενο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: από ένα μολυσμέν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προσπαθεί να εισέλθει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Ιός, Σκουλήκι, Δούρειος ίππο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49772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Ιό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viru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Λαμβάνοντας αντικείμενο που εκτελείται ενεργά            (π.χ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) μολύνει τον υπολογιστή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 σε άλλους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, χρήστε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Σκουλήκι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worm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Μόλυνση από παθητικά λαμβανόμενο αντικείμενο που εκτελείται χωρίς αλληλεπίδραση με το χρήστ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ς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Δούρειος ίππο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trojan hors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ρυμμένο τμήμα ενός γενικά χρήσιμου λογισμικο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Επίθεση κακόβουλου λογισμικού σε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servers 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ι σε δικτυακή υποδομ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Gill Sans MT"/>
              </a:rPr>
              <a:t>Άρνηση υπηρεσίας(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nia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f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rvice):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οι επιτιθέμενοι καθιστούν τους πόρους μη διαθέσιμους σε νόμιμη κίνηση δημιουργώντας σαρωτική πλαστή κίνηση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3 - Εικόνα"/>
          <p:cNvSpPr/>
          <p:nvPr/>
        </p:nvSpPr>
        <p:spPr>
          <a:xfrm>
            <a:off x="2666880" y="2971800"/>
            <a:ext cx="4228920" cy="3276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Packet snif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«ανακάλυψη» πακέτων),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 spoo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αραπλάνηση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49772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Μέσα ευρυεκπομπής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Verdana"/>
              </a:rPr>
              <a:t>shared Ethernet,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σύρματο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Η δικτυακή επαφή «παραβάτης» καταγράφει όλα τα πακέτα που περνού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ποστολή πακέτου με λάθος διεύθυνση πηγή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ταγραφή και Αναπαραγωγή από κακόβουλο λογισμικ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Καταγραφή και αναπαραγωγή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record-and-playback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Γίνεται καταγραφή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niff)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 ευαίσθητης πληροφορίας (π.χ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assword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και τη χρησιμοποιούν αργότερ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6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04052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ntivirus software(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λογισμικό προστασίας από ιούς)</a:t>
            </a: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Το λογισμικό αυτό χρησιμοποιείται για την πρόληψη, ανίχνευση και απομάκρυνση του κακόβουλου λογισμικού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" name="3 - Εικόνα" descr="th_antivirus.gif"/>
          <p:cNvPicPr/>
          <p:nvPr/>
        </p:nvPicPr>
        <p:blipFill>
          <a:blip r:embed="rId1"/>
          <a:stretch/>
        </p:blipFill>
        <p:spPr>
          <a:xfrm>
            <a:off x="3124080" y="3657600"/>
            <a:ext cx="3885840" cy="266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Firewall(τείχος προστασίας ενάντια στο κακόβουλο λογισμικό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λογισμικό αυτό ελέγχει την εισερχόμενη και εξερχόμενη κίνηση στο δίκτυο αναλύοντας τα πακέτα δεδομένων και καθορίζοντας αν πρέπει να περάσουν ή όχι σύμφωνα με τους προκαθορισμένους κανόνε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3 - Εικόνα" descr="Firewall.png"/>
          <p:cNvPicPr/>
          <p:nvPr/>
        </p:nvPicPr>
        <p:blipFill>
          <a:blip r:embed="rId1"/>
          <a:stretch/>
        </p:blipFill>
        <p:spPr>
          <a:xfrm>
            <a:off x="3048120" y="4343400"/>
            <a:ext cx="3885840" cy="228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5</TotalTime>
  <Application>LibreOffice/7.4.7.2$Linux_X86_64 LibreOffice_project/40$Build-2</Application>
  <AppVersion>15.0000</AppVersion>
  <Words>355</Words>
  <Paragraphs>48</Paragraphs>
  <Company>Goldfish_9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01:58Z</dcterms:created>
  <dc:creator>giannhs</dc:creator>
  <dc:description/>
  <dc:language>en-US</dc:language>
  <cp:lastModifiedBy>giannhs</cp:lastModifiedBy>
  <dcterms:modified xsi:type="dcterms:W3CDTF">2012-05-29T18:47:33Z</dcterms:modified>
  <cp:revision>51</cp:revision>
  <dc:subject/>
  <dc:title>Ασφάλεια δικτύ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7</vt:r8>
  </property>
</Properties>
</file>